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768C-285B-40E9-80B7-3A800CD14C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33F-2EA3-462C-A42A-66A0034BCB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AC5-F387-4EEA-A1C3-D54E4CA981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233-9A72-48E1-B9FD-EDA51931ED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djęcie- http://www.producthero.pl/podstawy-segmentacji-rynku-dla-product-manager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9D8-0AC1-4AD0-A778-34AC06AF1D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djęcie- http://www.producthero.pl/podstawy-segmentacji-rynku-dla-product-manager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D67-1929-43BA-87B0-ABB223AB4E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zanie od podstaw” A.Koźmiński; D.Jemielniak, Wydawnictwo Akademickie i Profesjonaln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1CF-2A82-4FA5-94BC-5DE0C273ED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commons.wikimedia.org/wiki/File%3AGot-an-idea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4A6-DE16-486A-850A-89EE2D66CB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795-E165-4A61-AD1E-F195A054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20C-54E3-424A-BFFE-E7F5A52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613-6ED4-4F22-94D5-E674031C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57F-9F6B-426D-B9F6-BF94E830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5BC-0070-45E3-9365-70FE982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D43-12FA-4255-84F1-7ACDF9A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78B-6D7F-4343-B7DB-1589902D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564-4C77-4480-BCF0-79C74F1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09C-3AA9-4DDC-ADAD-4B55DFA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F8F-604A-40F6-BEBF-86ADBFA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58E-DFC7-40F4-8F3C-0847BFA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9AF-E8A5-413B-9D19-1BCDFDA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B0B-9A47-4066-A80A-CB77741FB2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prowadzenie do segmentacji rynku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egmentacja i jej kry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ytuł 1"/>
          <p:cNvSpPr/>
          <p:nvPr/>
        </p:nvSpPr>
        <p:spPr>
          <a:xfrm>
            <a:off x="179280" y="2276640"/>
            <a:ext cx="84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ytuł 1"/>
          <p:cNvSpPr/>
          <p:nvPr/>
        </p:nvSpPr>
        <p:spPr>
          <a:xfrm>
            <a:off x="573120" y="476280"/>
            <a:ext cx="770904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 „…</a:t>
            </a: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wyodrębnianie części rynku, które można uznać za względnie jednorodne (podobne) ze względu na kilka ważnych cech, takich jak na przykład: preferencje i cechy nabywców (wiek, rasa, płeć, dochód, narodowość), lokalizacja, uwarunkowania prawne, istniejące sieci dystrybucji i inne.”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.Koźmiński; D.Jemielniak,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rządzanie od podstaw” Wydawnictwo Akademickie i Profesjonalne, 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egmentacja rynków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ytuł 1"/>
          <p:cNvSpPr/>
          <p:nvPr/>
        </p:nvSpPr>
        <p:spPr>
          <a:xfrm>
            <a:off x="179280" y="2276640"/>
            <a:ext cx="84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ytuł 1"/>
          <p:cNvSpPr/>
          <p:nvPr/>
        </p:nvSpPr>
        <p:spPr>
          <a:xfrm>
            <a:off x="573120" y="1413000"/>
            <a:ext cx="77090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ograficz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mografi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ołeczno-ekonomi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sychologi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hawior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.Koźmiński; D.Jemielniak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rządzanie od podstaw” Wydawnictwo Akademickie i Profesjonalne,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" y="25992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Kryteria segmentacji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7" name="Picture 2" descr="D:\Data\awinniczuk\AppData\Local\Microsoft\Windows\Temporary Internet Files\Content.IE5\O88VCUK1\MC900412780[1].wmf"/>
          <p:cNvPicPr/>
          <p:nvPr/>
        </p:nvPicPr>
        <p:blipFill>
          <a:blip r:embed="rId1"/>
          <a:stretch/>
        </p:blipFill>
        <p:spPr>
          <a:xfrm>
            <a:off x="5938920" y="1933560"/>
            <a:ext cx="19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65600" y="259920"/>
            <a:ext cx="9504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egmentacja rynku bankow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ytuł 1"/>
          <p:cNvSpPr/>
          <p:nvPr/>
        </p:nvSpPr>
        <p:spPr>
          <a:xfrm>
            <a:off x="72864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ytuł 1"/>
          <p:cNvSpPr/>
          <p:nvPr/>
        </p:nvSpPr>
        <p:spPr>
          <a:xfrm>
            <a:off x="177840" y="1197000"/>
            <a:ext cx="8570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Klienci masowi 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– osoby, których zarobki są zbliżone do średniej krajowej. Zazwyczaj zgłaszają zapotrzebowanie na pożyczkę oraz kartę kredytową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Klienci dobrze zarabiający 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– osoby o wysokich dochodach. Często ludzie stosunkowo młodzi, którzy potrzebują kredytu hipotecznego na zakup swojej pierwszej nieruchomości. Nie dysponują środkami własnymi, które pozwoliłyby im sfinansować tę inwestycję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433760" y="3257640"/>
            <a:ext cx="2746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ytuł 1"/>
          <p:cNvSpPr/>
          <p:nvPr/>
        </p:nvSpPr>
        <p:spPr>
          <a:xfrm>
            <a:off x="70020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ytuł 1"/>
          <p:cNvSpPr/>
          <p:nvPr/>
        </p:nvSpPr>
        <p:spPr>
          <a:xfrm>
            <a:off x="250920" y="1495440"/>
            <a:ext cx="8893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Klienci zamożni 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– osoby, które zdążyły już zgromadzić spory kapitał. Nie potrzebują dodatkowego kapitału, lecz szukają pomocy w jego zainwestowaniu w różne instrumenty finansowe (akcje, obligacje, fundusze inwestycyjne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Przedsiębiorstwa 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- podmioty, które poszukują korzystnych warunków prowadzenia rachunku oraz możliwości dostarczenia dodatkowego kapitału w krótkim czasi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ytuł 1"/>
          <p:cNvSpPr/>
          <p:nvPr/>
        </p:nvSpPr>
        <p:spPr>
          <a:xfrm>
            <a:off x="-165240" y="363600"/>
            <a:ext cx="95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egmentacja rynku bankoweg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Segmentacja globalnego rynku hotelarskiego na przykładzie sieci Accor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ytuł 1"/>
          <p:cNvSpPr/>
          <p:nvPr/>
        </p:nvSpPr>
        <p:spPr>
          <a:xfrm>
            <a:off x="70020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50920" y="5084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Poszczególne marki różnią się od siebie ceną oraz poziomem wykończenia i  obsługi. Oznacza to, że głównym kryterium podziału konsumentów na segmenty  jest ich potencjał finansowy i wymagania dotyczące wyposaże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Diagram 8" descr=""/>
          <p:cNvPicPr/>
          <p:nvPr/>
        </p:nvPicPr>
        <p:blipFill>
          <a:blip r:embed="rId1"/>
          <a:stretch/>
        </p:blipFill>
        <p:spPr>
          <a:xfrm>
            <a:off x="1981080" y="1444680"/>
            <a:ext cx="5211720" cy="3322440"/>
          </a:xfrm>
          <a:prstGeom prst="rect">
            <a:avLst/>
          </a:prstGeom>
          <a:ln w="0">
            <a:noFill/>
          </a:ln>
        </p:spPr>
      </p:pic>
      <p:pic>
        <p:nvPicPr>
          <p:cNvPr id="72" name="Rounded Rectangle 9" descr=""/>
          <p:cNvPicPr/>
          <p:nvPr/>
        </p:nvPicPr>
        <p:blipFill>
          <a:blip r:embed="rId2"/>
          <a:stretch/>
        </p:blipFill>
        <p:spPr>
          <a:xfrm>
            <a:off x="1163520" y="1438200"/>
            <a:ext cx="1116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54468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Dlaczego powinniśmy dokonać segmentacji rynku hotelarskiego Pekunii?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Tytuł 1"/>
          <p:cNvSpPr/>
          <p:nvPr/>
        </p:nvSpPr>
        <p:spPr>
          <a:xfrm>
            <a:off x="250920" y="105264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ytuł 1"/>
          <p:cNvSpPr/>
          <p:nvPr/>
        </p:nvSpPr>
        <p:spPr>
          <a:xfrm>
            <a:off x="700200" y="1085760"/>
            <a:ext cx="77724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ytuł 1"/>
          <p:cNvSpPr/>
          <p:nvPr/>
        </p:nvSpPr>
        <p:spPr>
          <a:xfrm>
            <a:off x="279360" y="1425600"/>
            <a:ext cx="549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43040" indent="-7430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-108000" y="2870280"/>
            <a:ext cx="722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b0f0"/>
                </a:solidFill>
                <a:latin typeface="Calibri"/>
                <a:ea typeface="Arial"/>
              </a:rPr>
              <a:t>Czas na burzę </a:t>
            </a:r>
            <a:br>
              <a:rPr sz="5400"/>
            </a:br>
            <a:r>
              <a:rPr b="0" lang="pl-PL" sz="5400" spc="-1" strike="noStrike">
                <a:solidFill>
                  <a:srgbClr val="00b0f0"/>
                </a:solidFill>
                <a:latin typeface="Calibri"/>
                <a:ea typeface="Arial"/>
              </a:rPr>
              <a:t>mózgów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6727680" y="2112840"/>
            <a:ext cx="1843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53:38Z</dcterms:modified>
  <cp:revision>66</cp:revision>
  <dc:subject/>
  <dc:title>Slajd 1</dc:title>
</cp:coreProperties>
</file>